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368A-104E-486E-B212-C083BE56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8F0-EA3E-4506-A96F-0A01FA41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1BA-BCE3-4224-A675-B31C345B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0A3-CB72-4325-8061-8F076D51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76C-4F08-4A00-B198-B783E632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954-F001-4639-9DCE-3EAB14A5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8F4-6D7F-45DE-B959-D8565E05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333-70D0-4C45-A151-090F8E33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3F0-CA34-43E5-9B3A-048992B4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AC9-7ECE-4F53-8B1B-7F03AEAE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8F0-D9C5-4DB9-8965-757A8DFA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AB1-D8DE-4E60-9D43-367C3C91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6F7B-4615-465F-A42D-3006E7CE5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delsjourney.com/images/close-ups/us/misc/survivor/Survivor_logo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pn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b37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2543040" cy="1903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72200" y="2438280"/>
            <a:ext cx="2543040" cy="1903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24080" y="4876920"/>
            <a:ext cx="2514600" cy="1743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380880"/>
            <a:ext cx="2733840" cy="1724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562720" y="1447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1676520" y="39625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 rot="1174800">
            <a:off x="1828440" y="1523880"/>
            <a:ext cx="1905120" cy="1809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 rot="20493600">
            <a:off x="5160960" y="3838680"/>
            <a:ext cx="2438280" cy="1623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3048120" y="2362320"/>
            <a:ext cx="2819160" cy="2109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228600" y="4800600"/>
            <a:ext cx="165276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7238880" y="4714920"/>
            <a:ext cx="1714680" cy="2143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304920" y="304920"/>
            <a:ext cx="1714320" cy="2143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4"/>
          <a:stretch/>
        </p:blipFill>
        <p:spPr>
          <a:xfrm>
            <a:off x="7086600" y="380880"/>
            <a:ext cx="1652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1:18:52Z</dcterms:created>
  <dc:creator>Loran Bowers</dc:creator>
  <dc:description/>
  <dc:language>en-US</dc:language>
  <cp:lastModifiedBy>Loran Bowers</cp:lastModifiedBy>
  <dcterms:modified xsi:type="dcterms:W3CDTF">2008-05-01T02:57:18Z</dcterms:modified>
  <cp:revision>3</cp:revision>
  <dc:subject/>
  <dc:title>Slide 1</dc:title>
</cp:coreProperties>
</file>